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2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24.jpeg" ContentType="image/jpeg"/>
  <Override PartName="/ppt/media/image30.jpeg" ContentType="image/jpeg"/>
  <Override PartName="/ppt/media/image3.jpeg" ContentType="image/jpeg"/>
  <Override PartName="/ppt/media/image3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39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A2EE-6560-4245-BA26-7D70E2BEF71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hyperlink" Target="http://www.uraledu.ru/files/&#1071;&#1087;&#1086;&#1085;&#1080;&#1103;-1.ppt" TargetMode="External"/><Relationship Id="rId2" Type="http://schemas.openxmlformats.org/officeDocument/2006/relationships/hyperlink" Target="http://www.uraledu.ru/files/&#1069;&#1092;&#1080;&#1086;&#1087;&#1080;&#1103;.ppt" TargetMode="External"/><Relationship Id="rId3" Type="http://schemas.openxmlformats.org/officeDocument/2006/relationships/hyperlink" Target="http://www.uraledu.ru/files/&#1056;&#1077;&#1089;&#1087;&#1091;&#1073;&#1083;&#1080;&#1082;&#1072;%20&#1050;&#1077;&#1085;&#1080;&#1103;.ppt" TargetMode="External"/><Relationship Id="rId4" Type="http://schemas.openxmlformats.org/officeDocument/2006/relationships/slide" Target="../slides/slide20.xml"/><Relationship Id="rId5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Учитель геогра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МОУ-Средняя общеобразо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школа №1 г.Арами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Пятыгина Светлана Пет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C001-EA48-4127-9720-F71689C6E095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a10"/>
                </a:solidFill>
                <a:latin typeface="Calibri"/>
              </a:rPr>
              <a:t>Прием наложения слоёв карты</a:t>
            </a:r>
            <a:br>
              <a:rPr sz="1800"/>
            </a:br>
            <a:r>
              <a:rPr b="0" lang="ru-RU" sz="1800" spc="-1" strike="noStrike">
                <a:solidFill>
                  <a:srgbClr val="000a10"/>
                </a:solidFill>
                <a:latin typeface="Calibri"/>
              </a:rPr>
              <a:t>актуален в курсе географии «Население и хозяйство Росси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выявить факторы размещения  предприятий черной металлургии (9 класс, тема: «География размещения предприятий чёрной металлургии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7700-539C-40DF-A708-BB4DD0FB4265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е грузоперевозо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8316-47D0-4CF5-84D2-D9422663397C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специализирован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контроля знаний учащих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онтальный опрос (проведение географических диктант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й  (ответ у дос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F015-C2C4-440A-A6BC-D1EC5F37B7DF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терактивной доски в работе с детьми с ограниченными возможностями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BCAF-C031-4E68-A1C7-19017CE11957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Положительные моменты использования интерактивной доски при работе с учащимися с ограниченными возможностями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006F-BD33-4AF9-A1DC-EC304BD54CBF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разных форм и методических приёмов при работе с электронной географической картой формирует у учащихся важнейшие географические умения  - картографичес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044D-016E-4631-8150-163CCBF570AA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и издательства «Кирилл и Мефод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ированный программный продукт «КМ-Школ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1BDB-EB97-4862-B055-4DE13426765C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ие природные процессы и явления показаны в динамике, в виде  видеофрагментов, которые развивают образное мышление, формируют географические представлен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A725-4C7D-417D-A30B-EC62D44FC728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Интерактивные электронные карты, выпущенные издательством «Дроф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2B7D-1A65-4D8B-B521-0A2C1ACC8DEF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еда ИПП «КМ-Школ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обна для организации проектной работы учащихся.  Ученики получают возможность быстро найти необходимую информацию, оформить результаты самостоятельной групповой работы в виде презент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«Экономика и культура Японии»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«Страны Африк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7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6A8B-2715-4D76-AE19-EB8850417CD9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аиллюс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FD79-3EF2-415F-B5DF-C5F04FBF0F2C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a10"/>
                </a:solidFill>
                <a:latin typeface="Calibri"/>
              </a:rPr>
              <a:t>Медиаобъекты и текстовые комментар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являются очень ценными при знакомстве с внешними характерными чертами изучаемых объек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68B6-5C59-48A2-AFA7-F3B7BD41E72E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активная доска  позволяет эффективно использовать в работе  электронные учебники «Начальный курс географии», «Наш – дом Земля», «География России», «Экономическая и социальна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ография мира»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5248-C801-44D5-BBA0-FAAF3C7B7C25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активные тренаж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FCCC-1F19-4E4E-AA26-5AB643E096DA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активные тренаж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7E5F-7E7C-4959-9E93-8DEC6DB12F46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ирование по тем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484A-C1AC-4999-9D85-12863CD4DC08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активные карт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A169-E95F-45EE-913F-019222948FA8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технологии позволяют ученикам  с интересом усваивать большой объем информации, урок становится более наглядным, разнообразным и увлекате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CC25-DC4D-457E-BE17-404898882406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ваивать новые возможности интерактивной доски при изучении географии чтобы повысить эффективность уро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FFC3-665D-4740-BAC3-4177C122C167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a10"/>
                </a:solidFill>
                <a:latin typeface="Calibri"/>
              </a:rPr>
              <a:t>Возможности наглядного пособия: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ближать участки земной поверхности для более детального рассмо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0CD4-801D-4BFB-9EEB-079891B53E6A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Снимать часть обозначений, упрощая карту, делая её более наглядно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Тема «Схема поверхностных течений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2A41-F958-4E8C-9698-A1B7CF7CDCCE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a10"/>
                </a:solidFill>
                <a:latin typeface="Calibri"/>
              </a:rPr>
              <a:t>Создавать рисунки,</a:t>
            </a:r>
            <a:br>
              <a:rPr sz="1600"/>
            </a:br>
            <a:r>
              <a:rPr b="0" lang="ru-RU" sz="1600" spc="-1" strike="noStrike">
                <a:solidFill>
                  <a:srgbClr val="000a10"/>
                </a:solidFill>
                <a:latin typeface="Calibri"/>
              </a:rPr>
              <a:t>наносить надписи на карте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 клас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 : «Географическое положение Южной Америки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. Определить крайние точки материка Ю. Америка, определить географические координ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EBB4-052B-4B50-986B-068D29A2AC76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a10"/>
                </a:solidFill>
                <a:latin typeface="Calibri"/>
              </a:rPr>
              <a:t>Возможность рисования на карте значительно расширяет её роль как наглядного пособия при закреплении нового материала</a:t>
            </a:r>
            <a:r>
              <a:rPr b="0" lang="ru-RU" sz="1800" spc="-1" strike="noStrike">
                <a:solidFill>
                  <a:srgbClr val="000a10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При изучении географического положения материков в 7 классе, учащиеся проводят меридианы и параллели, а затем, включив нужный слой, осуществляют самопроверк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1B79-F1E5-4E4C-9012-B7B6918C0F4A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a10"/>
                </a:solidFill>
                <a:latin typeface="Calibri"/>
              </a:rPr>
              <a:t>Дополнительный иллюстративный  и текстовый материа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ет возможность  учащимся глубже понять содержание изучаемого объекта или территории, сравнить географические объек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886B-CF8A-4575-8EA4-5AAF0C1C7928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Комбинирование слоями позволяет выявить причинно-следственные связи и закономернос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. Тема «Тектоника и минеральные ресурсы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сделать вывод о соответствии крупных форм рельефа определенным структурам земной ко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B27E-3ECB-4DAE-B8B8-50C50F786CD3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7F0A-CDCB-41E3-8459-8A0805EC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98BD-A784-44B5-9E1C-529629AE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11BC-3663-45B2-BE1F-36FCBBDE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18AA-1CB0-44FD-9E87-0477817F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ABBEA-0E9E-44ED-981A-F696C298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7BC6A-1E99-4475-9A11-E6B890A4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55B67-C15C-439E-BE43-0B4B24C1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89BC7-685F-4173-A50E-4DC2FB40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EC35E-EB87-4971-8510-45DA3D7A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62D17-BF37-49A8-88BB-568B08CC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0AB1F-43F9-4F97-8DA6-1488A638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F72C-56C3-4178-BAAD-0243A891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95390-2E40-4D42-B0FC-D9A96692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D135F-2EF5-44FB-9DF5-896768CC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0254F-803C-403D-82D4-B6C96648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1EBE3-6A91-4BC2-A327-5770F3EC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570E7-5C69-4382-9F63-F699682C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E309C-BA80-4DC5-AE53-3AAA7AE8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17DF2-12D5-469C-ACC3-CAE84DD8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F3D58-3907-4E6B-9768-432B50F9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1F0E8-4643-4978-9A40-FEC2EC56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56504-8803-4E41-BED6-1DAE69F0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C4B4-BB0A-4CB2-8D00-D3DB4696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A8AD7-3735-4537-BFF8-6992F875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7DCB9-D8A3-4057-B72B-F2CAAF5D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3A27F-49B6-4D45-AE4F-06A4F667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8E3F4-6CE0-4A52-B378-369FB232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FB538-3814-4721-BFD7-C5FDD261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0E732-BAE3-4215-9A47-C4DAADC0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2DFA5-4D8B-4E7C-A365-E3A141C2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E172A-481E-4DAF-81B1-F88CF616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BEDC6-4F75-4239-8492-A3B048EB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84E8C-2F72-4807-8E9F-20432CB4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6A14-93FC-46E2-8F38-DB65210B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0F569-8AF8-4436-87D2-D3D4D456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CA658-E4FD-4A9D-BFAB-6BBFD3EC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4D30B-85C4-492D-8FAE-E421313F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9A5D9-11AB-4E73-AC66-659145CF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9B741-A65D-4C07-8D99-09A7C11B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20142-9475-4198-8410-FB6D2836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5B067-4D92-48CA-8FEF-5D29A4A3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807CB-8368-44A2-993F-960EF6FC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85D16-EE2B-4C4F-AA71-D8794351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3DB7A-E447-48ED-ABEB-D9280C55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F0BA-FBC0-4FC5-B5A5-3CC2BF61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1706C-9E1E-4CE7-BA59-3AA56B97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02A2E-810D-46CD-B2A4-034BD9F9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209CF-ABCC-41AB-91F2-FD763F9B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7EB08-6DC6-4FC1-8540-72338046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48283-F461-424C-81AD-05C5F68A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F49C5-D7BB-4D3C-B463-CA956571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493E4-5039-4A37-840D-294352A8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1ED22-EB7C-4D6E-AC4D-65AB5E9E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BBFC4-4B7F-4777-9287-E9C000D1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1E057-1586-4F83-B141-91C7308C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56CF-BFE8-406F-8E10-F5693C1E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D5833-D0E7-48E1-A01E-0BAC55BA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E0719-9F60-4A34-9BE3-A8366920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BE60C-16EB-4D91-A28B-70D5FC9A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0AD70-70AE-4287-AB3F-D63CFAB6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AF224-6075-44E1-855C-FC170181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93E74-1B22-4761-B014-6BDD9133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FB722-5403-4B09-ACC0-79EF4A51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825BD-5DAC-417E-AB4A-0EA684A9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A0C25-3E0E-4546-8742-D53C618E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5EEFA-3D78-4BB9-A7CB-818A860A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C5EF-C41A-4F99-A06A-063DAD72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720C1-2A52-469B-AEC1-FCA6C9DB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5D44C-837A-4571-9CE1-EE81E9FA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84BCC-C817-4E56-BB73-50294169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B289-8DEE-40B2-A5C5-7305EE6F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00B9-C2B3-42ED-AC7B-B93D6EE7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145A-0D85-4B6A-AB9D-F0952CA5D59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8D1F-AFBE-492B-92D6-1774A4289A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1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sp>
          <p:nvSpPr>
            <p:cNvPr id="11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11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grpSp>
        <p:nvGrpSpPr>
          <p:cNvPr id="157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8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grpSp>
          <p:nvGrpSpPr>
            <p:cNvPr id="159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60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1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2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3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4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5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6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7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8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9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0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171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72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3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4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5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6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7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8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9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0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1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2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3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4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5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6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7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8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9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190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91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2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3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4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5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6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7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8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9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0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1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2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3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4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5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6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7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208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09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0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1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2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3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4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5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grpSp>
            <p:nvGrpSpPr>
              <p:cNvPr id="216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17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18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19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20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D028-C96A-4AFE-AE3F-714FFF0759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63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grpSp>
          <p:nvGrpSpPr>
            <p:cNvPr id="264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65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6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9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6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7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0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1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3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4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grpSp>
            <p:nvGrpSpPr>
              <p:cNvPr id="290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1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2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3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4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5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6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7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8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9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0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1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2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3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4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5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306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07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8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309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10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1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2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3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4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5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6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7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8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19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1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2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3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4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5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6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0C81-6BF9-45DB-A4AC-8800849C889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6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7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7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7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7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7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sp>
          <p:nvSpPr>
            <p:cNvPr id="37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7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08CA-9908-4924-ABAC-786060C2FA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19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grpSp>
          <p:nvGrpSpPr>
            <p:cNvPr id="420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1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2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3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4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5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6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7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8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9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0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1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432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3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4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5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6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7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8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9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0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1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2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3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4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5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6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7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8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9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0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451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2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3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4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5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6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7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8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9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0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1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2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3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4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5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6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7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8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469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0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1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2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3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4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5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6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grpSp>
            <p:nvGrpSpPr>
              <p:cNvPr id="477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78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79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80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81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DF9E-0C0E-494C-8F0F-2BF9A45635E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uraledu.ru/files/&#1071;&#1087;&#1086;&#1085;&#1080;&#1103;-1.ppt" TargetMode="External"/><Relationship Id="rId2" Type="http://schemas.openxmlformats.org/officeDocument/2006/relationships/hyperlink" Target="http://www.uraledu.ru/files/&#1069;&#1092;&#1080;&#1086;&#1087;&#1080;&#1103;.ppt" TargetMode="External"/><Relationship Id="rId3" Type="http://schemas.openxmlformats.org/officeDocument/2006/relationships/hyperlink" Target="http://www.uraledu.ru/files/&#1056;&#1077;&#1089;&#1087;&#1091;&#1073;&#1083;&#1080;&#1082;&#1072;%20&#1050;&#1077;&#1085;&#1080;&#1103;.ppt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5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323640" y="3885840"/>
            <a:ext cx="3384360" cy="25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b2500"/>
                </a:solidFill>
                <a:latin typeface="Garamond"/>
              </a:rPr>
              <a:t>Учитель географии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b2500"/>
                </a:solidFill>
                <a:latin typeface="Garamond"/>
              </a:rPr>
              <a:t>МОУ-Средняя общеобразовательная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b2500"/>
                </a:solidFill>
                <a:latin typeface="Garamond"/>
              </a:rPr>
              <a:t>школа №1 г.Арамиля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b2500"/>
                </a:solidFill>
                <a:latin typeface="Garamond"/>
              </a:rPr>
              <a:t>Пятыгина Светлана Петровна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684360" y="25560"/>
            <a:ext cx="7704000" cy="237924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a10"/>
                </a:solidFill>
                <a:latin typeface="Tahoma"/>
              </a:rPr>
              <a:t>Использование интерактивной доски Interwrite Board на уроках географии</a:t>
            </a: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32" name="Picture 0" descr="image002"/>
          <p:cNvPicPr/>
          <p:nvPr/>
        </p:nvPicPr>
        <p:blipFill>
          <a:blip r:embed="rId1"/>
          <a:stretch/>
        </p:blipFill>
        <p:spPr>
          <a:xfrm>
            <a:off x="3708360" y="2421000"/>
            <a:ext cx="5048280" cy="3790800"/>
          </a:xfrm>
          <a:prstGeom prst="rect">
            <a:avLst/>
          </a:prstGeom>
          <a:ln w="0">
            <a:noFill/>
          </a:ln>
        </p:spPr>
      </p:pic>
      <p:sp>
        <p:nvSpPr>
          <p:cNvPr id="533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a10"/>
                </a:solidFill>
                <a:latin typeface="Garamond"/>
              </a:rPr>
              <a:t>Прием наложения слоёв карты</a:t>
            </a:r>
            <a:br>
              <a:rPr sz="4000"/>
            </a:br>
            <a:r>
              <a:rPr b="1" lang="ru-RU" sz="4000" spc="-1" strike="noStrike">
                <a:solidFill>
                  <a:srgbClr val="000a10"/>
                </a:solidFill>
                <a:latin typeface="Garamond"/>
              </a:rPr>
              <a:t>актуален в курсе географии «Население и хозяйство России»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Задание: выявить факторы размещения  предприятий черной металлургии (9 класс, тема: «География размещения предприятий чёрной металлургии»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7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81" name="Text Box 12"/>
          <p:cNvSpPr/>
          <p:nvPr/>
        </p:nvSpPr>
        <p:spPr>
          <a:xfrm>
            <a:off x="826920" y="260280"/>
            <a:ext cx="6409080" cy="30708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a10"/>
                </a:solidFill>
                <a:latin typeface="Tahoma"/>
              </a:rPr>
              <a:t>География размещения угля и железной руды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82" name="Picture 0" descr="image002"/>
          <p:cNvPicPr/>
          <p:nvPr/>
        </p:nvPicPr>
        <p:blipFill>
          <a:blip r:embed="rId1"/>
          <a:stretch/>
        </p:blipFill>
        <p:spPr>
          <a:xfrm>
            <a:off x="324000" y="1303200"/>
            <a:ext cx="8496000" cy="4684680"/>
          </a:xfrm>
          <a:prstGeom prst="rect">
            <a:avLst/>
          </a:prstGeom>
          <a:ln w="0">
            <a:noFill/>
          </a:ln>
        </p:spPr>
      </p:pic>
      <p:sp>
        <p:nvSpPr>
          <p:cNvPr id="58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b2500"/>
                </a:solidFill>
                <a:latin typeface="Garamond"/>
              </a:rPr>
              <a:t>Направление грузоперевозок</a:t>
            </a:r>
            <a:br>
              <a:rPr sz="4000"/>
            </a:b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585" name="Picture 1" descr="image002"/>
          <p:cNvPicPr/>
          <p:nvPr/>
        </p:nvPicPr>
        <p:blipFill>
          <a:blip r:embed="rId1"/>
          <a:stretch/>
        </p:blipFill>
        <p:spPr>
          <a:xfrm>
            <a:off x="1403280" y="1628640"/>
            <a:ext cx="6147000" cy="4602240"/>
          </a:xfrm>
          <a:prstGeom prst="rect">
            <a:avLst/>
          </a:prstGeom>
          <a:ln w="0">
            <a:noFill/>
          </a:ln>
        </p:spPr>
      </p:pic>
      <p:sp>
        <p:nvSpPr>
          <p:cNvPr id="58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588" name="Picture 1" descr="image002"/>
          <p:cNvPicPr/>
          <p:nvPr/>
        </p:nvPicPr>
        <p:blipFill>
          <a:blip r:embed="rId1"/>
          <a:stretch/>
        </p:blipFill>
        <p:spPr>
          <a:xfrm>
            <a:off x="900000" y="1268280"/>
            <a:ext cx="6840720" cy="5127840"/>
          </a:xfrm>
          <a:prstGeom prst="rect">
            <a:avLst/>
          </a:prstGeom>
          <a:ln w="0">
            <a:noFill/>
          </a:ln>
        </p:spPr>
      </p:pic>
      <p:sp>
        <p:nvSpPr>
          <p:cNvPr id="58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9564"/>
                </a:solidFill>
                <a:latin typeface="Garamond"/>
              </a:rPr>
              <a:t>Использование специализированных карт</a:t>
            </a: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42560" y="692280"/>
            <a:ext cx="7489800" cy="54036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Организация контроля знаний учащихся: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Фронтальный опрос (проведение географических диктантов)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индивидуальный  (ответ у доски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92" name="Picture 5" descr=""/>
          <p:cNvPicPr/>
          <p:nvPr/>
        </p:nvPicPr>
        <p:blipFill>
          <a:blip r:embed="rId1"/>
          <a:stretch/>
        </p:blipFill>
        <p:spPr>
          <a:xfrm>
            <a:off x="1763640" y="3357720"/>
            <a:ext cx="5904000" cy="3220920"/>
          </a:xfrm>
          <a:prstGeom prst="rect">
            <a:avLst/>
          </a:prstGeom>
          <a:ln w="0">
            <a:noFill/>
          </a:ln>
        </p:spPr>
      </p:pic>
      <p:sp>
        <p:nvSpPr>
          <p:cNvPr id="59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69564"/>
                </a:solidFill>
                <a:latin typeface="Garamond"/>
              </a:rPr>
              <a:t>Использование интерактивной доски в работе с детьми с ограниченными возможностями здоровья</a:t>
            </a: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595" name="Picture 4" descr="SPM_A0376"/>
          <p:cNvPicPr/>
          <p:nvPr/>
        </p:nvPicPr>
        <p:blipFill>
          <a:blip r:embed="rId1"/>
          <a:srcRect l="11118" t="0" r="0" b="0"/>
          <a:stretch/>
        </p:blipFill>
        <p:spPr>
          <a:xfrm>
            <a:off x="250920" y="17002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10"/>
          <p:cNvSpPr/>
          <p:nvPr/>
        </p:nvSpPr>
        <p:spPr>
          <a:xfrm>
            <a:off x="250920" y="5157720"/>
            <a:ext cx="3744720" cy="150876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Задание. Написать названия гор.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6 коррекционный класс. 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Тема «Горы»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597" name="Text Box 11"/>
          <p:cNvSpPr/>
          <p:nvPr/>
        </p:nvSpPr>
        <p:spPr>
          <a:xfrm>
            <a:off x="4572000" y="4941720"/>
            <a:ext cx="4032360" cy="217296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Задание. Впиши в клеточки название отраслей промышленности.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7 коррекционный класс. Тема «Промышленность – основа хозяйства, её отрасли» 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99" name="Picture 2" descr="image002"/>
          <p:cNvPicPr/>
          <p:nvPr/>
        </p:nvPicPr>
        <p:blipFill>
          <a:blip r:embed="rId2"/>
          <a:stretch/>
        </p:blipFill>
        <p:spPr>
          <a:xfrm>
            <a:off x="4498920" y="1700280"/>
            <a:ext cx="4645080" cy="2987640"/>
          </a:xfrm>
          <a:prstGeom prst="rect">
            <a:avLst/>
          </a:prstGeom>
          <a:ln w="0">
            <a:noFill/>
          </a:ln>
        </p:spPr>
      </p:pic>
      <p:sp>
        <p:nvSpPr>
          <p:cNvPr id="60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Положительные моменты использования интерактивной доски при работе с учащимися с ограниченными возможностями здоровья</a:t>
            </a: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4581360" y="1557360"/>
            <a:ext cx="4562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Способствует развитию контроля и самоконтроля учащихся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В процессе выполнения заданий развивается внимание, расширяется его объём и концентрация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Учащиеся овладевают простыми, но необходимыми приёмами зрительного и слухового запоминания, а также сохранения увиденного и услышанного в памяти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Закладываются любознательности, самостоятельности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Закладываются предпосылки для формирования компьютерной грамотности, для дальнейшей адоптации в социуме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603" name="Picture 1" descr="image002"/>
          <p:cNvPicPr/>
          <p:nvPr/>
        </p:nvPicPr>
        <p:blipFill>
          <a:blip r:embed="rId1"/>
          <a:stretch/>
        </p:blipFill>
        <p:spPr>
          <a:xfrm>
            <a:off x="250920" y="1844640"/>
            <a:ext cx="4254480" cy="3670200"/>
          </a:xfrm>
          <a:prstGeom prst="rect">
            <a:avLst/>
          </a:prstGeom>
          <a:ln w="0">
            <a:noFill/>
          </a:ln>
        </p:spPr>
      </p:pic>
      <p:sp>
        <p:nvSpPr>
          <p:cNvPr id="60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a10"/>
                </a:solidFill>
                <a:latin typeface="Garamond"/>
              </a:rPr>
              <a:t>Вывод: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Применение разных форм и методических приёмов при работе с электронной географической картой формирует у учащихся важнейшие географические умения  - картографические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607" name="Picture 1" descr="image002"/>
          <p:cNvPicPr/>
          <p:nvPr/>
        </p:nvPicPr>
        <p:blipFill>
          <a:blip r:embed="rId1"/>
          <a:stretch/>
        </p:blipFill>
        <p:spPr>
          <a:xfrm>
            <a:off x="4764240" y="1600200"/>
            <a:ext cx="3806640" cy="4525920"/>
          </a:xfrm>
          <a:prstGeom prst="rect">
            <a:avLst/>
          </a:prstGeom>
          <a:ln w="0">
            <a:noFill/>
          </a:ln>
        </p:spPr>
      </p:pic>
      <p:sp>
        <p:nvSpPr>
          <p:cNvPr id="60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лектронные ресур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иски издательства «Кирилл и Мефодий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нтегрированный программный продукт «КМ-Школа»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11" name="Picture 1" descr="image002"/>
          <p:cNvPicPr/>
          <p:nvPr/>
        </p:nvPicPr>
        <p:blipFill>
          <a:blip r:embed="rId1"/>
          <a:stretch/>
        </p:blipFill>
        <p:spPr>
          <a:xfrm>
            <a:off x="4305240" y="1700280"/>
            <a:ext cx="2184480" cy="30970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" descr="image002"/>
          <p:cNvPicPr/>
          <p:nvPr/>
        </p:nvPicPr>
        <p:blipFill>
          <a:blip r:embed="rId2"/>
          <a:stretch/>
        </p:blipFill>
        <p:spPr>
          <a:xfrm>
            <a:off x="6732720" y="1700280"/>
            <a:ext cx="2190600" cy="3097080"/>
          </a:xfrm>
          <a:prstGeom prst="rect">
            <a:avLst/>
          </a:prstGeom>
          <a:ln w="0">
            <a:noFill/>
          </a:ln>
        </p:spPr>
      </p:pic>
      <p:sp>
        <p:nvSpPr>
          <p:cNvPr id="61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Многие природные процессы и явления показаны в динамике, в виде  видеофрагментов, которые развивают образное мышление, формируют географические представления учащихся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15" name="Picture 0" descr="image002"/>
          <p:cNvPicPr/>
          <p:nvPr/>
        </p:nvPicPr>
        <p:blipFill>
          <a:blip r:embed="rId1"/>
          <a:stretch/>
        </p:blipFill>
        <p:spPr>
          <a:xfrm>
            <a:off x="179280" y="4221000"/>
            <a:ext cx="5616720" cy="24847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3" descr="image002"/>
          <p:cNvPicPr/>
          <p:nvPr/>
        </p:nvPicPr>
        <p:blipFill>
          <a:blip r:embed="rId2"/>
          <a:stretch/>
        </p:blipFill>
        <p:spPr>
          <a:xfrm>
            <a:off x="5651640" y="1557360"/>
            <a:ext cx="3492360" cy="2619360"/>
          </a:xfrm>
          <a:prstGeom prst="rect">
            <a:avLst/>
          </a:prstGeom>
          <a:ln w="0">
            <a:noFill/>
          </a:ln>
        </p:spPr>
      </p:pic>
      <p:sp>
        <p:nvSpPr>
          <p:cNvPr id="61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a10"/>
                </a:solidFill>
                <a:latin typeface="Garamond"/>
              </a:rPr>
              <a:t>Интерактивные электронные карты, выпущенные издательством «Дрофа»</a:t>
            </a:r>
            <a:br>
              <a:rPr sz="4000"/>
            </a:b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52240" y="2876040"/>
            <a:ext cx="487044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36" name="Text Box 15"/>
          <p:cNvSpPr/>
          <p:nvPr/>
        </p:nvSpPr>
        <p:spPr>
          <a:xfrm>
            <a:off x="179280" y="4869000"/>
            <a:ext cx="4032360" cy="184788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Garamond"/>
              </a:rPr>
              <a:t>В школе накоплено 62 интерактивные карты</a:t>
            </a: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37" name="Picture 1" descr="image002"/>
          <p:cNvPicPr/>
          <p:nvPr/>
        </p:nvPicPr>
        <p:blipFill>
          <a:blip r:embed="rId1"/>
          <a:stretch/>
        </p:blipFill>
        <p:spPr>
          <a:xfrm>
            <a:off x="611280" y="1628640"/>
            <a:ext cx="1998720" cy="28083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" descr="image002"/>
          <p:cNvPicPr/>
          <p:nvPr/>
        </p:nvPicPr>
        <p:blipFill>
          <a:blip r:embed="rId2"/>
          <a:stretch/>
        </p:blipFill>
        <p:spPr>
          <a:xfrm>
            <a:off x="3564000" y="1628640"/>
            <a:ext cx="1719360" cy="25210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image002"/>
          <p:cNvPicPr/>
          <p:nvPr/>
        </p:nvPicPr>
        <p:blipFill>
          <a:blip r:embed="rId3"/>
          <a:stretch/>
        </p:blipFill>
        <p:spPr>
          <a:xfrm>
            <a:off x="6227640" y="1628640"/>
            <a:ext cx="1984320" cy="280836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реда ИПП «КМ-Школы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удобна для организации проектной работы учащихся.  Ученики получают возможность быстро найти необходимую информацию, оформить результаты самостоятельной групповой работы в виде презентации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«Экономика и культура Японии»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1 клас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«Страны Африки»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7 клас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20" name="Picture 1" descr="image002"/>
          <p:cNvPicPr/>
          <p:nvPr/>
        </p:nvPicPr>
        <p:blipFill>
          <a:blip r:embed="rId4"/>
          <a:stretch/>
        </p:blipFill>
        <p:spPr>
          <a:xfrm>
            <a:off x="4645080" y="1725480"/>
            <a:ext cx="4362480" cy="4583160"/>
          </a:xfrm>
          <a:prstGeom prst="rect">
            <a:avLst/>
          </a:prstGeom>
          <a:ln w="0">
            <a:noFill/>
          </a:ln>
        </p:spPr>
      </p:pic>
      <p:sp>
        <p:nvSpPr>
          <p:cNvPr id="6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image002"/>
          <p:cNvPicPr/>
          <p:nvPr/>
        </p:nvPicPr>
        <p:blipFill>
          <a:blip r:embed="rId1"/>
          <a:stretch/>
        </p:blipFill>
        <p:spPr>
          <a:xfrm>
            <a:off x="2050920" y="1413000"/>
            <a:ext cx="3961080" cy="313344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едиаиллюстра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25" name="Picture 0" descr="image002"/>
          <p:cNvPicPr/>
          <p:nvPr/>
        </p:nvPicPr>
        <p:blipFill>
          <a:blip r:embed="rId2"/>
          <a:stretch/>
        </p:blipFill>
        <p:spPr>
          <a:xfrm>
            <a:off x="0" y="3284640"/>
            <a:ext cx="2522520" cy="35733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" descr="image002"/>
          <p:cNvPicPr/>
          <p:nvPr/>
        </p:nvPicPr>
        <p:blipFill>
          <a:blip r:embed="rId3"/>
          <a:stretch/>
        </p:blipFill>
        <p:spPr>
          <a:xfrm>
            <a:off x="3780000" y="3860640"/>
            <a:ext cx="5364000" cy="2532240"/>
          </a:xfrm>
          <a:prstGeom prst="rect">
            <a:avLst/>
          </a:prstGeom>
          <a:ln w="0">
            <a:noFill/>
          </a:ln>
        </p:spPr>
      </p:pic>
      <p:sp>
        <p:nvSpPr>
          <p:cNvPr id="6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29" name="Picture 1" descr="image002"/>
          <p:cNvPicPr/>
          <p:nvPr/>
        </p:nvPicPr>
        <p:blipFill>
          <a:blip r:embed="rId1"/>
          <a:stretch/>
        </p:blipFill>
        <p:spPr>
          <a:xfrm>
            <a:off x="539640" y="90792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a10"/>
                </a:solidFill>
                <a:latin typeface="Arial"/>
              </a:rPr>
              <a:t>Медиаобъекты и текстовые комментарии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являются очень ценными при знакомстве с внешними характерными чертами изучаемых объектов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31" name="Picture 7" descr="image002"/>
          <p:cNvPicPr/>
          <p:nvPr/>
        </p:nvPicPr>
        <p:blipFill>
          <a:blip r:embed="rId2"/>
          <a:stretch/>
        </p:blipFill>
        <p:spPr>
          <a:xfrm>
            <a:off x="455760" y="3960720"/>
            <a:ext cx="4037040" cy="2097360"/>
          </a:xfrm>
          <a:prstGeom prst="rect">
            <a:avLst/>
          </a:prstGeom>
          <a:ln w="0">
            <a:noFill/>
          </a:ln>
        </p:spPr>
      </p:pic>
      <p:sp>
        <p:nvSpPr>
          <p:cNvPr id="63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Интерактивная доска  позволяет эффективно использовать в работе  электронные учебники «Начальный курс географии», «Наш – дом Земля», «География России», «Экономическая и социальная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география мира»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34" name="Picture 1" descr="image002"/>
          <p:cNvPicPr/>
          <p:nvPr/>
        </p:nvPicPr>
        <p:blipFill>
          <a:blip r:embed="rId1"/>
          <a:stretch/>
        </p:blipFill>
        <p:spPr>
          <a:xfrm>
            <a:off x="179280" y="2997360"/>
            <a:ext cx="2808360" cy="25653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" descr="image002"/>
          <p:cNvPicPr/>
          <p:nvPr/>
        </p:nvPicPr>
        <p:blipFill>
          <a:blip r:embed="rId2"/>
          <a:stretch/>
        </p:blipFill>
        <p:spPr>
          <a:xfrm>
            <a:off x="3132000" y="2276640"/>
            <a:ext cx="2880000" cy="26287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5" descr="image002"/>
          <p:cNvPicPr/>
          <p:nvPr/>
        </p:nvPicPr>
        <p:blipFill>
          <a:blip r:embed="rId3"/>
          <a:stretch/>
        </p:blipFill>
        <p:spPr>
          <a:xfrm>
            <a:off x="6294600" y="2924280"/>
            <a:ext cx="2849400" cy="2598480"/>
          </a:xfrm>
          <a:prstGeom prst="rect">
            <a:avLst/>
          </a:prstGeom>
          <a:ln w="0">
            <a:noFill/>
          </a:ln>
        </p:spPr>
      </p:pic>
      <p:sp>
        <p:nvSpPr>
          <p:cNvPr id="6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Интерактивные тренажер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7"/>
          <p:cNvSpPr/>
          <p:nvPr/>
        </p:nvSpPr>
        <p:spPr>
          <a:xfrm>
            <a:off x="1116000" y="5661000"/>
            <a:ext cx="6624720" cy="97092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99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8ae"/>
                </a:solidFill>
                <a:latin typeface="Garamond"/>
              </a:rPr>
              <a:t>Отработка умений и навыков у учащихся</a:t>
            </a: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641" name="Picture 1" descr="image002"/>
          <p:cNvPicPr/>
          <p:nvPr/>
        </p:nvPicPr>
        <p:blipFill>
          <a:blip r:embed="rId1"/>
          <a:stretch/>
        </p:blipFill>
        <p:spPr>
          <a:xfrm>
            <a:off x="900000" y="920880"/>
            <a:ext cx="6840720" cy="4518000"/>
          </a:xfrm>
          <a:prstGeom prst="rect">
            <a:avLst/>
          </a:prstGeom>
          <a:ln w="0">
            <a:noFill/>
          </a:ln>
        </p:spPr>
      </p:pic>
      <p:sp>
        <p:nvSpPr>
          <p:cNvPr id="6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терактивные тренаже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44" name="Picture 1" descr="image002"/>
          <p:cNvPicPr/>
          <p:nvPr/>
        </p:nvPicPr>
        <p:blipFill>
          <a:blip r:embed="rId1"/>
          <a:stretch/>
        </p:blipFill>
        <p:spPr>
          <a:xfrm>
            <a:off x="324000" y="1341360"/>
            <a:ext cx="8604000" cy="4737240"/>
          </a:xfrm>
          <a:prstGeom prst="rect">
            <a:avLst/>
          </a:prstGeom>
          <a:ln w="0">
            <a:noFill/>
          </a:ln>
        </p:spPr>
      </p:pic>
      <p:sp>
        <p:nvSpPr>
          <p:cNvPr id="6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стирование по тема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324000" y="5805360"/>
            <a:ext cx="8424720" cy="9709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8ae"/>
                </a:solidFill>
                <a:latin typeface="Garamond"/>
              </a:rPr>
              <a:t>Возможность проверить усвоение учебного материала.</a:t>
            </a: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648" name="Picture 1" descr="image002"/>
          <p:cNvPicPr/>
          <p:nvPr/>
        </p:nvPicPr>
        <p:blipFill>
          <a:blip r:embed="rId1"/>
          <a:stretch/>
        </p:blipFill>
        <p:spPr>
          <a:xfrm>
            <a:off x="900000" y="836640"/>
            <a:ext cx="7559640" cy="4994280"/>
          </a:xfrm>
          <a:prstGeom prst="rect">
            <a:avLst/>
          </a:prstGeom>
          <a:ln w="0">
            <a:noFill/>
          </a:ln>
        </p:spPr>
      </p:pic>
      <p:sp>
        <p:nvSpPr>
          <p:cNvPr id="6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Интерактивные карты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1" name="Text Box 10"/>
          <p:cNvSpPr/>
          <p:nvPr/>
        </p:nvSpPr>
        <p:spPr>
          <a:xfrm>
            <a:off x="5919840" y="3443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652" name="Text Box 11"/>
          <p:cNvSpPr/>
          <p:nvPr/>
        </p:nvSpPr>
        <p:spPr>
          <a:xfrm>
            <a:off x="4356000" y="4292640"/>
            <a:ext cx="2880000" cy="368280"/>
          </a:xfrm>
          <a:prstGeom prst="rect">
            <a:avLst/>
          </a:prstGeom>
          <a:solidFill>
            <a:srgbClr val="000a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8ae"/>
                </a:solidFill>
                <a:latin typeface="Tahoma"/>
              </a:rPr>
              <a:t>11 класс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653" name="Text Box 12"/>
          <p:cNvSpPr/>
          <p:nvPr/>
        </p:nvSpPr>
        <p:spPr>
          <a:xfrm>
            <a:off x="324000" y="4292640"/>
            <a:ext cx="2519280" cy="368280"/>
          </a:xfrm>
          <a:prstGeom prst="rect">
            <a:avLst/>
          </a:prstGeom>
          <a:solidFill>
            <a:srgbClr val="000a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7 класс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654" name="Picture 1" descr="image002"/>
          <p:cNvPicPr/>
          <p:nvPr/>
        </p:nvPicPr>
        <p:blipFill>
          <a:blip r:embed="rId1"/>
          <a:stretch/>
        </p:blipFill>
        <p:spPr>
          <a:xfrm>
            <a:off x="179280" y="1052640"/>
            <a:ext cx="4038840" cy="30286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3" descr="image002"/>
          <p:cNvPicPr/>
          <p:nvPr/>
        </p:nvPicPr>
        <p:blipFill>
          <a:blip r:embed="rId2"/>
          <a:stretch/>
        </p:blipFill>
        <p:spPr>
          <a:xfrm>
            <a:off x="4356000" y="1052640"/>
            <a:ext cx="4470480" cy="3052800"/>
          </a:xfrm>
          <a:prstGeom prst="rect">
            <a:avLst/>
          </a:prstGeom>
          <a:ln w="0">
            <a:noFill/>
          </a:ln>
        </p:spPr>
      </p:pic>
      <p:sp>
        <p:nvSpPr>
          <p:cNvPr id="6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a10"/>
                </a:solidFill>
                <a:latin typeface="Garamond"/>
              </a:rPr>
              <a:t>Вывод: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859280" y="1699920"/>
            <a:ext cx="396072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компьютерные технологии позволяют ученикам  с интересом усваивать большой объем информации, урок становится более наглядным, разнообразным и увлекательным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659" name="Picture 1" descr="image002"/>
          <p:cNvPicPr/>
          <p:nvPr/>
        </p:nvPicPr>
        <p:blipFill>
          <a:blip r:embed="rId1"/>
          <a:stretch/>
        </p:blipFill>
        <p:spPr>
          <a:xfrm>
            <a:off x="250920" y="1916280"/>
            <a:ext cx="4824360" cy="3625560"/>
          </a:xfrm>
          <a:prstGeom prst="rect">
            <a:avLst/>
          </a:prstGeom>
          <a:ln w="0">
            <a:noFill/>
          </a:ln>
        </p:spPr>
      </p:pic>
      <p:sp>
        <p:nvSpPr>
          <p:cNvPr id="66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Задача: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10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осваивать новые возможности интерактивной доски при изучении географии чтобы повысить эффективность урока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663" name="Picture 1" descr="image002"/>
          <p:cNvPicPr/>
          <p:nvPr/>
        </p:nvPicPr>
        <p:blipFill>
          <a:blip r:embed="rId1"/>
          <a:stretch/>
        </p:blipFill>
        <p:spPr>
          <a:xfrm>
            <a:off x="4211640" y="1557360"/>
            <a:ext cx="4716360" cy="3530520"/>
          </a:xfrm>
          <a:prstGeom prst="rect">
            <a:avLst/>
          </a:prstGeom>
          <a:ln w="0">
            <a:noFill/>
          </a:ln>
        </p:spPr>
      </p:pic>
      <p:sp>
        <p:nvSpPr>
          <p:cNvPr id="66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a10"/>
                </a:solidFill>
                <a:latin typeface="Garamond"/>
              </a:rPr>
              <a:t>Возможности наглядного пособия:</a:t>
            </a: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6840" y="1599840"/>
            <a:ext cx="40323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2500"/>
                </a:solidFill>
                <a:latin typeface="Garamond"/>
              </a:rPr>
              <a:t>приближать участки земной поверхности для более детального рассмотрения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43" name="Picture 1" descr="image002"/>
          <p:cNvPicPr/>
          <p:nvPr/>
        </p:nvPicPr>
        <p:blipFill>
          <a:blip r:embed="rId1"/>
          <a:stretch/>
        </p:blipFill>
        <p:spPr>
          <a:xfrm>
            <a:off x="4932360" y="1341360"/>
            <a:ext cx="3651120" cy="33973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image002"/>
          <p:cNvPicPr/>
          <p:nvPr/>
        </p:nvPicPr>
        <p:blipFill>
          <a:blip r:embed="rId2"/>
          <a:stretch/>
        </p:blipFill>
        <p:spPr>
          <a:xfrm>
            <a:off x="179280" y="3645000"/>
            <a:ext cx="4643640" cy="2892240"/>
          </a:xfrm>
          <a:prstGeom prst="rect">
            <a:avLst/>
          </a:prstGeom>
          <a:ln w="0">
            <a:noFill/>
          </a:ln>
        </p:spPr>
      </p:pic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a10"/>
                </a:solidFill>
                <a:latin typeface="Garamond"/>
              </a:rPr>
              <a:t>Снимать часть обозначений, упрощая карту, делая её более наглядной</a:t>
            </a:r>
            <a:br>
              <a:rPr sz="3200"/>
            </a:b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7 класс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Тема «Схема поверхностных течений»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1763640" y="692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49" name="Picture 1" descr="image002"/>
          <p:cNvPicPr/>
          <p:nvPr/>
        </p:nvPicPr>
        <p:blipFill>
          <a:blip r:embed="rId1"/>
          <a:stretch/>
        </p:blipFill>
        <p:spPr>
          <a:xfrm>
            <a:off x="1187280" y="2708280"/>
            <a:ext cx="6048720" cy="3759120"/>
          </a:xfrm>
          <a:prstGeom prst="rect">
            <a:avLst/>
          </a:prstGeom>
          <a:ln w="0">
            <a:noFill/>
          </a:ln>
        </p:spPr>
      </p:pic>
      <p:sp>
        <p:nvSpPr>
          <p:cNvPr id="5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Создавать рисунки,</a:t>
            </a:r>
            <a:br>
              <a:rPr sz="2800"/>
            </a:b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наносить надписи на карте </a:t>
            </a:r>
            <a:br>
              <a:rPr sz="2800"/>
            </a:b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27280" y="1600200"/>
            <a:ext cx="29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7 класс.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Тема : «Географическое положение Южной Америки»</a:t>
            </a:r>
            <a:br>
              <a:rPr sz="2000"/>
            </a:b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Задание. Определить крайние точки материка Ю. Америка, определить географические координаты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491508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54" name="Picture 1" descr="image002"/>
          <p:cNvPicPr/>
          <p:nvPr/>
        </p:nvPicPr>
        <p:blipFill>
          <a:blip r:embed="rId1"/>
          <a:stretch/>
        </p:blipFill>
        <p:spPr>
          <a:xfrm>
            <a:off x="324000" y="1773360"/>
            <a:ext cx="5040000" cy="3778200"/>
          </a:xfrm>
          <a:prstGeom prst="rect">
            <a:avLst/>
          </a:prstGeom>
          <a:ln w="0">
            <a:noFill/>
          </a:ln>
        </p:spPr>
      </p:pic>
      <p:sp>
        <p:nvSpPr>
          <p:cNvPr id="5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2e5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47160" cy="1452600"/>
          </a:xfrm>
          <a:prstGeom prst="rect">
            <a:avLst/>
          </a:prstGeom>
          <a:solidFill>
            <a:srgbClr val="bfbfa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Возможность рисования на карте значительно расширяет её роль как наглядного пособия при закреплении нового материала</a:t>
            </a:r>
            <a:r>
              <a:rPr b="1" lang="ru-RU" sz="3200" spc="-1" strike="noStrike">
                <a:solidFill>
                  <a:srgbClr val="000a10"/>
                </a:solidFill>
                <a:latin typeface="Garamond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032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Garamond"/>
              </a:rPr>
              <a:t>При изучении географического положения материков в 7 классе, учащиеся проводят меридианы и параллели, а затем, включив нужный слой, осуществляют самопроверку. 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/>
          <a:srcRect l="0" t="0" r="17025" b="0"/>
          <a:stretch/>
        </p:blipFill>
        <p:spPr>
          <a:xfrm>
            <a:off x="250920" y="1773360"/>
            <a:ext cx="3384360" cy="30589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"/>
          <p:cNvPicPr/>
          <p:nvPr/>
        </p:nvPicPr>
        <p:blipFill>
          <a:blip r:embed="rId2"/>
          <a:srcRect l="0" t="0" r="18210" b="0"/>
          <a:stretch/>
        </p:blipFill>
        <p:spPr>
          <a:xfrm>
            <a:off x="4859280" y="3213000"/>
            <a:ext cx="3672000" cy="33670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9" descr="024"/>
          <p:cNvPicPr/>
          <p:nvPr/>
        </p:nvPicPr>
        <p:blipFill>
          <a:blip r:embed="rId3"/>
          <a:stretch/>
        </p:blipFill>
        <p:spPr>
          <a:xfrm>
            <a:off x="1042920" y="3357720"/>
            <a:ext cx="961920" cy="76176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0"/>
          <p:cNvSpPr/>
          <p:nvPr/>
        </p:nvSpPr>
        <p:spPr>
          <a:xfrm>
            <a:off x="539640" y="189000"/>
            <a:ext cx="8147160" cy="1452600"/>
          </a:xfrm>
          <a:prstGeom prst="rect">
            <a:avLst/>
          </a:prstGeom>
          <a:solidFill>
            <a:srgbClr val="bfb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Возможность рисования на карте значительно расширяет её роль как наглядного пособия при закреплении нового материала</a:t>
            </a:r>
            <a:r>
              <a:rPr b="1" lang="ru-RU" sz="3200" spc="-1" strike="noStrike">
                <a:solidFill>
                  <a:srgbClr val="000a10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5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556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000a10"/>
                </a:solidFill>
                <a:latin typeface="Garamond"/>
              </a:rPr>
              <a:t>Дополнительный иллюстративный  и текстовый материал</a:t>
            </a:r>
            <a:endParaRPr b="1" lang="en-US" sz="2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Дает возможность  учащимся глубже понять содержание изучаемого объекта или территории, сравнить географические объекты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1042920" y="623736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8 класс Тема: «Типы почв России»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66" name="Picture 1" descr="image002"/>
          <p:cNvPicPr/>
          <p:nvPr/>
        </p:nvPicPr>
        <p:blipFill>
          <a:blip r:embed="rId1"/>
          <a:stretch/>
        </p:blipFill>
        <p:spPr>
          <a:xfrm>
            <a:off x="3780000" y="1268280"/>
            <a:ext cx="3456000" cy="25894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image002"/>
          <p:cNvPicPr/>
          <p:nvPr/>
        </p:nvPicPr>
        <p:blipFill>
          <a:blip r:embed="rId2"/>
          <a:stretch/>
        </p:blipFill>
        <p:spPr>
          <a:xfrm>
            <a:off x="5292720" y="3933720"/>
            <a:ext cx="3530520" cy="2664000"/>
          </a:xfrm>
          <a:prstGeom prst="rect">
            <a:avLst/>
          </a:prstGeom>
          <a:ln w="0">
            <a:noFill/>
          </a:ln>
        </p:spPr>
      </p:pic>
      <p:sp>
        <p:nvSpPr>
          <p:cNvPr id="56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Комбинирование слоями позволяет выявить причинно-следственные связи и закономерности.</a:t>
            </a:r>
            <a:br>
              <a:rPr sz="2800"/>
            </a:b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8 класс. Тема «Тектоника и минеральные ресурсы России»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Задание: сделать вывод о соответствии крупных форм рельефа определенным структурам земной коры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71" name="Picture 1" descr="image002"/>
          <p:cNvPicPr/>
          <p:nvPr/>
        </p:nvPicPr>
        <p:blipFill>
          <a:blip r:embed="rId1"/>
          <a:stretch/>
        </p:blipFill>
        <p:spPr>
          <a:xfrm>
            <a:off x="4500720" y="1628640"/>
            <a:ext cx="4643280" cy="3662640"/>
          </a:xfrm>
          <a:prstGeom prst="rect">
            <a:avLst/>
          </a:prstGeom>
          <a:ln w="0">
            <a:noFill/>
          </a:ln>
        </p:spPr>
      </p:pic>
      <p:sp>
        <p:nvSpPr>
          <p:cNvPr id="5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574" name="Picture 1" descr="image002"/>
          <p:cNvPicPr/>
          <p:nvPr/>
        </p:nvPicPr>
        <p:blipFill>
          <a:blip r:embed="rId1"/>
          <a:stretch/>
        </p:blipFill>
        <p:spPr>
          <a:xfrm>
            <a:off x="250920" y="1484280"/>
            <a:ext cx="8570880" cy="4795920"/>
          </a:xfrm>
          <a:prstGeom prst="rect">
            <a:avLst/>
          </a:prstGeom>
          <a:ln w="0">
            <a:noFill/>
          </a:ln>
        </p:spPr>
      </p:pic>
      <p:sp>
        <p:nvSpPr>
          <p:cNvPr id="5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2-29T09:38:29Z</dcterms:modified>
  <cp:revision>41</cp:revision>
  <dc:subject/>
  <dc:title>PowerPoint Presentation</dc:title>
</cp:coreProperties>
</file>